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096-48DE-4BE4-B8BC-F6BD1911414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4FC-A8DE-40B4-890E-8B9BD35105B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992C-F139-405D-943F-D4A812D2226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C9E8-E771-4072-AC69-13485FAB73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19C-90F9-468E-A1F0-0FA4AC48727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0D71-D1A3-4040-891F-67450EFD0E7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D03B-D8B9-4E3E-9FA2-F02634431A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D4D-2EA1-4527-9941-8A1E0172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250-C690-4782-8785-FCC9FA04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14A-6316-4F99-86FD-BCCADE98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4E5-8AA5-402F-B4D4-2B6C8B3E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7822-0F73-46E6-BC0C-3A32523B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D6EB-CCFC-4F8E-BE14-2705F70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1C6-BE76-41E8-8E3F-2E8E9401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386B-F591-4E30-BBC8-700369F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A36-22D3-4988-8A35-976EBC3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134D-C7FA-4786-8B3D-B55FEA6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7D3-4D94-4ED2-9695-83AFBA7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A32-F7DF-4DE1-B5D5-9D86994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C3B-E599-4F7D-864A-AFAA7BE4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DD60-2B2E-47B9-A554-B00DF39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48D9-EA5E-42CE-83B4-E5EA629B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999-173E-4161-AC0A-5436EC0D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F492-4EB4-4226-A9F3-B3DCCE60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6971-305C-46F5-9454-4FEE461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CA1A8-67BE-49DA-AA97-38E7A77E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FBAE-CDE4-4185-B7B4-1C06FB4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7E74-71FF-4D3F-9559-F31D10F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7462-8DE2-4DDB-8DD8-90FA06C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119-46E4-4671-B11F-8128B5E8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A7FD-BA4A-4D52-838A-10A91ACE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B025-2EBA-4A21-A184-0A49633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4D66-163E-4294-893C-EC464BF4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6775-D6BD-4BA8-A760-FA7B134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C6672-1443-4982-B875-7F0C438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C1A0-4DED-436F-B29A-8D5934D9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BA22-F3CE-4A35-ABAC-F5E6D4EF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9E3F-ABC4-420E-948F-71CAB322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A7DC-76F7-4878-A2C0-4199D205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F029-34D4-457D-A966-2A3CC1A5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2B3-8222-4405-BE9F-3FA5B42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1C02-2C2B-4772-8F65-BF0703B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1E24-D4F9-4A75-B157-D55F190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A4E0-F49A-4523-A2F4-5430031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3C80-8524-48E6-9D85-2842855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862F-23D6-4276-96E4-4DA72EA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F51D-6AF8-46D4-A2B6-5E06D24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BA6E-9410-48E4-A01A-3EAFD80A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EB3B-CB93-4D0B-97C8-ABB8EB06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7409-7D32-443E-BBE0-883CF621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6A7-E494-4C56-9084-4BFE8CD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E72-02FF-4DDF-8F1D-C1D5180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74D-808B-458F-9DA7-BD12D1C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6B6-AA30-4380-8F24-E581E6A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42C-B13F-4A19-88BD-A35764A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2D8-290C-4929-92E8-CDA9020FA667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562-A3F5-41FF-B448-2365A49D4F2A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08B-EDF1-47A1-9125-D79665B7FE4B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126-C7BF-409C-9AF7-F057432D86E5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05F-FA75-43C7-8914-5D4BE90E0DE9}" type="datetime">
              <a:rPr b="0" lang="en-CA" sz="1200" spc="-1" strike="noStrike">
                <a:solidFill>
                  <a:srgbClr val="d1eaee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DE4-6987-4781-863E-05BD9C7DC7F5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5E82-8306-4FF0-9C88-B214F9899896}" type="datetime">
              <a:rPr b="0" lang="en-CA" sz="1200" spc="-1" strike="noStrike">
                <a:solidFill>
                  <a:srgbClr val="045c75"/>
                </a:solidFill>
                <a:latin typeface="Constantia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Constantia"/>
              </a:rPr>
              <a:t>S.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AB1-7B7F-46FD-863C-0AB58143FB7A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12640" y="433440"/>
            <a:ext cx="7491600" cy="1187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signed work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g. 449 #1abc, 2abc, 5, 7-9,12,15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rite out what “you think” the vector, parametric a symmetric equations of a line in R</a:t>
            </a:r>
            <a:r>
              <a:rPr b="0" lang="en-CA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would b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44928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6" name="Object 12"/>
          <p:cNvGraphicFramePr/>
          <p:nvPr/>
        </p:nvGraphicFramePr>
        <p:xfrm>
          <a:off x="1908000" y="2637000"/>
          <a:ext cx="530388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637000"/>
                    <a:ext cx="5303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2340000" y="2413080"/>
          <a:ext cx="417672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413080"/>
                    <a:ext cx="417672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 R</a:t>
            </a:r>
            <a:r>
              <a:rPr b="0" lang="en-CA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835280" y="2581200"/>
          <a:ext cx="575928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581200"/>
                    <a:ext cx="57592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1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 Find a direction vector fo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The line that passes through P(6,-4,1) &amp; Q(2,-8,-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 line perpendicular to the xz pl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lphaLcParenR"/>
              <a:tabLst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25280" indent="-12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1258920" y="3562200"/>
          <a:ext cx="5184720" cy="15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62200"/>
                    <a:ext cx="5184720" cy="15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1187280" y="5445000"/>
          <a:ext cx="54421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445000"/>
                    <a:ext cx="54421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704880"/>
            <a:ext cx="749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CA" sz="3200" spc="-1" strike="noStrike" u="sng">
                <a:solidFill>
                  <a:srgbClr val="04617b"/>
                </a:solidFill>
                <a:uFillTx/>
                <a:latin typeface="Arial"/>
                <a:ea typeface="Arial"/>
              </a:rPr>
              <a:t>8.3 Vector, Parametric &amp; Symmetric Equations of a Line in R</a:t>
            </a:r>
            <a:r>
              <a:rPr b="0" lang="en-CA" sz="3200" spc="-1" strike="noStrike" u="sng" baseline="30000">
                <a:solidFill>
                  <a:srgbClr val="04617b"/>
                </a:solidFill>
                <a:uFillTx/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 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: Find vector, parametric &amp; symmetric equations of the line which passes through A(2,-2,-8) and B(5,-2,-14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532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1187280" y="2924280"/>
          <a:ext cx="683136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313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7:07:38Z</dcterms:created>
  <dc:creator>sandy</dc:creator>
  <dc:description/>
  <dc:language>en-US</dc:language>
  <cp:lastModifiedBy>sandy</cp:lastModifiedBy>
  <dcterms:modified xsi:type="dcterms:W3CDTF">2010-12-30T16:48:40Z</dcterms:modified>
  <cp:revision>278</cp:revision>
  <dc:subject/>
  <dc:title>2.2 Derivatives of Polynomial Functions</dc:title>
</cp:coreProperties>
</file>